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A008-26E3-49A3-AC07-0797EEE1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B3FD-6ECF-41D8-A9A9-745C7AC6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6B75-6370-4876-980D-939206C0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4233-4F06-45F3-B2D0-3EFDFA8B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8C05-5819-48E2-A6BB-17BCDB67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DE35-988B-408C-AED5-4D2F6FEA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79D4-CB85-4111-9029-989DB3B0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F3F4-ED6B-481E-A41C-F4C974E3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3A85-DCC6-4128-BFC0-EB4DFFB1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7AD6-6DA3-42D9-AD20-136267C9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9C27-0781-4247-B7D0-B6E7B59D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95AE-1E4C-4251-B9A6-76697642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0D0F-EA68-45EA-8A99-716823F7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4230-C2F3-417C-85B5-E9AB2FCC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CC26-89BA-4EA7-AB75-35C6E879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2500-FB8E-4E26-8FC5-53A3D516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20D2-BEC7-434A-9E6E-485038BF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4950-5717-4F5C-BCEA-4D46564A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4F31-234D-42F6-AA55-23DF671F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2FF1-33B2-42E9-8E9D-B9C7781C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B55F-CB58-42EC-975D-99E8B1C1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BB33-3772-4518-9F48-76760B41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05D9-2AEC-476E-BB0D-0A73AB53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A5DA-0C51-4B01-A42C-A0A4095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E9E1-FF8A-49D8-9A6C-80CB6B00E6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8E7F-8EF4-42EE-B8D7-CEF180A878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2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Tahoma"/>
              </a:rPr>
              <a:t>«Зелёный свет мечты и надежды»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Tahoma"/>
              </a:rPr>
              <a:t>(по рассказу А. Грина «Зелёная лампа»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фой Елена Анатольевна, студентка 4 курса филологического факультета КГПИ,  г. Сыктывкар 201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чему А. Грин назвал рассказ                   «Зелёная лампа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33"/>
                </a:solidFill>
                <a:latin typeface="Tahoma"/>
              </a:rPr>
              <a:t>Основополагающий вопрос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33"/>
                </a:solidFill>
                <a:latin typeface="Tahoma"/>
              </a:rPr>
              <a:t>Проблемные вопросы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ва тема рассказа «Зелёная лампа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ва идея рассказа «Зелёная лампа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была зелёная лампа для Стильто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 что наказан Стильтон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стала для Ива зелёная ламп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чему Джон Ив смог добиться многог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чём смысл рассказ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33"/>
                </a:solidFill>
                <a:latin typeface="Tahoma"/>
              </a:rPr>
              <a:t>Дидактические цели.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ить учащихся  анализировать тек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спитание гуманности, привитие чуткости и и доброты на основе произ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вивать умение выделять главное 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33"/>
                </a:solidFill>
                <a:latin typeface="Tahoma"/>
              </a:rPr>
              <a:t>Представление результатов исследования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ссе на тем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ин -один из немногих  ,кого следует иметь в походной аптечке против ожирения сердца и усталости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ент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к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33"/>
                </a:solidFill>
                <a:latin typeface="Tahoma"/>
              </a:rPr>
              <a:t>Мы будем изучать следующее: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каз А.С. Грина «Зелёная ламп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графию А.С .Грина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ировать рассказ А.С .Грина «Зелёная ламп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ворчество А.С. Гр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Tahoma"/>
              </a:rPr>
              <a:t>Продолжительность проекта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ва урока, по 45 минут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33"/>
                </a:solidFill>
                <a:latin typeface="Tahoma"/>
              </a:rPr>
              <a:t>Информационные ресурсы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ебник для 8 класса общественных  учреждений /Г.И. Беленький-М., «Просвещение»,199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Я. Коровина. Уроки литературы 8кл. Уроки для учителя-М., «Просвещение»,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6:48:10Z</dcterms:created>
  <dc:creator>Миша</dc:creator>
  <dc:description/>
  <dc:language>en-US</dc:language>
  <cp:lastModifiedBy>Миша</cp:lastModifiedBy>
  <dcterms:modified xsi:type="dcterms:W3CDTF">2010-04-18T13:04:21Z</dcterms:modified>
  <cp:revision>9</cp:revision>
  <dc:subject/>
  <dc:title>«Зеленый свет мечты и надежды» (по рассказу А.Грина «Зеленая лампа»</dc:title>
</cp:coreProperties>
</file>